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F4F-2024-4586-9B3B-A69F0334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8D2-702D-49D8-A493-D1C92A23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C86-B631-4007-A27B-6712ACCB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E232-0F48-42EB-8E2A-DFD91D61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ECC-F09F-4DB4-9623-2E7A48E8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8FE-050A-43B7-835D-61BA05A0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E9C-B8FD-49A4-90F3-C15C84F7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7E7-4589-4B6B-AFDA-4A4E98A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38A-3F14-4CBC-9673-C5DBA757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A5A2-2465-4527-9B0A-6F5821F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BE7-5C2E-42D3-90D2-1CB5A355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5FB-8808-47A3-BA52-3F59D71C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4A2D-F89D-4E10-B089-EE0FC9D7A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YOUR 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se your own opinions and those of others to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QA tex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pages 116 and 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one of the three tasks in the white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3:01:53Z</dcterms:created>
  <dc:creator>sthobbsc</dc:creator>
  <dc:description/>
  <dc:language>en-US</dc:language>
  <cp:lastModifiedBy>sthobbsc</cp:lastModifiedBy>
  <dcterms:modified xsi:type="dcterms:W3CDTF">2006-10-13T13:02:06Z</dcterms:modified>
  <cp:revision>1</cp:revision>
  <dc:subject/>
  <dc:title>What are YOUR opinions</dc:title>
</cp:coreProperties>
</file>